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7D81-B4C7-4196-B451-139DF51F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1B4-31C1-4696-BE60-A510A2D2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6A0F-CF6D-458F-A6E3-CCDE23BB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C48F-DCE8-47C2-8D98-B8A6F860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0AC0-B76D-4DE7-9A55-A2CF9406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09CE-8EE3-43BC-8C72-73AFA21F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9D6-A7D6-47FF-B735-C0A0BC30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576C-1C2A-401D-9D15-4D0DAD6B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FAA0-BF3B-48C4-8BC5-A9A0C120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B5B3-9E41-4FE1-A30A-4E7B8E00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B096-3C64-4496-9285-A6F42D16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C15E-A52F-462F-88DD-61B5D110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3F40-0E99-4C32-907E-8CCA2B432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1.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ng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8899560" cy="1439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71800" y="2362320"/>
            <a:ext cx="594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o replace each variable in an expression with a numb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nd then follow the order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152388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valuating Variable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86868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988480" cy="3251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38280" y="1219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86600" y="1295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895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2895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2895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51055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488880"/>
            <a:ext cx="8915400" cy="3778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33920" y="1523880"/>
            <a:ext cx="609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2438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3200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olving Problems by Evaluating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2400" y="457200"/>
            <a:ext cx="889920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3301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16002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1c , $1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63868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71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480" y="60199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9:49:07Z</dcterms:created>
  <dc:creator>Susannah Graham</dc:creator>
  <dc:description/>
  <dc:language>en-US</dc:language>
  <cp:lastModifiedBy>Graham</cp:lastModifiedBy>
  <dcterms:modified xsi:type="dcterms:W3CDTF">2011-08-18T12:56:06Z</dcterms:modified>
  <cp:revision>3</cp:revision>
  <dc:subject/>
  <dc:title>Lesson 1.3 Evaluating Expressions</dc:title>
</cp:coreProperties>
</file>